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7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77676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6976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66360" y="4687560"/>
            <a:ext cx="5335560" cy="44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937224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776760" y="937224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176F1B1D-8ADB-41B2-86E3-C7B2E162210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7012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687560"/>
            <a:ext cx="5335560" cy="44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ierbij hebben we meteen al één van de informatieproducten te pakk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lke zijn er nog meer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744084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75880" y="4019400"/>
            <a:ext cx="744084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864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5880" y="401940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8640" y="401940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1920" y="206064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7960" y="206064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75880" y="401940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1920" y="401940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7960" y="401940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75880" y="2060640"/>
            <a:ext cx="74408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74408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363096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8640" y="2060640"/>
            <a:ext cx="363096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75880" y="991800"/>
            <a:ext cx="744084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8640" y="2060640"/>
            <a:ext cx="363096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75880" y="401940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75880" y="2060640"/>
            <a:ext cx="74408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363096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864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8640" y="401940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864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75880" y="4019400"/>
            <a:ext cx="744084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744084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75880" y="4019400"/>
            <a:ext cx="744084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864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75880" y="401940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8640" y="401940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91920" y="206064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7960" y="206064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75880" y="401940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91920" y="401940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7960" y="4019400"/>
            <a:ext cx="239580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74408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363096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8640" y="2060640"/>
            <a:ext cx="363096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75880" y="991800"/>
            <a:ext cx="744084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8640" y="2060640"/>
            <a:ext cx="363096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75880" y="401940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363096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864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8640" y="401940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588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8640" y="2060640"/>
            <a:ext cx="363096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75880" y="4019400"/>
            <a:ext cx="7440840" cy="178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/>
          <p:cNvSpPr/>
          <p:nvPr/>
        </p:nvSpPr>
        <p:spPr>
          <a:xfrm>
            <a:off x="455760" y="533520"/>
            <a:ext cx="8231040" cy="5711760"/>
          </a:xfrm>
          <a:prstGeom prst="roundRect">
            <a:avLst>
              <a:gd name="adj" fmla="val 7588"/>
            </a:avLst>
          </a:prstGeom>
          <a:solidFill>
            <a:srgbClr val="c5d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11"/>
          <p:cNvSpPr/>
          <p:nvPr/>
        </p:nvSpPr>
        <p:spPr>
          <a:xfrm>
            <a:off x="876240" y="884160"/>
            <a:ext cx="7440840" cy="0"/>
          </a:xfrm>
          <a:prstGeom prst="line">
            <a:avLst/>
          </a:prstGeom>
          <a:ln w="19080">
            <a:solidFill>
              <a:srgbClr val="27aae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2" descr="KvK-logo_RGB"/>
          <p:cNvPicPr/>
          <p:nvPr/>
        </p:nvPicPr>
        <p:blipFill>
          <a:blip r:embed="rId2"/>
          <a:stretch/>
        </p:blipFill>
        <p:spPr>
          <a:xfrm>
            <a:off x="7886880" y="5702400"/>
            <a:ext cx="1041120" cy="88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875880" y="2060640"/>
            <a:ext cx="74408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27aae1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27aae1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39640" indent="-179280">
              <a:buClr>
                <a:srgbClr val="27aae1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719280" indent="-177840">
              <a:buClr>
                <a:srgbClr val="27aae1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71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71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876240" y="6341760"/>
            <a:ext cx="5880240" cy="1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560520" y="3773520"/>
            <a:ext cx="8022960" cy="2389320"/>
          </a:xfrm>
          <a:prstGeom prst="roundRect">
            <a:avLst>
              <a:gd name="adj" fmla="val 18606"/>
            </a:avLst>
          </a:prstGeom>
          <a:solidFill>
            <a:srgbClr val="c5d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1" descr="Maarten-MKB-KVK-01LR"/>
          <p:cNvPicPr/>
          <p:nvPr/>
        </p:nvPicPr>
        <p:blipFill>
          <a:blip r:embed="rId2"/>
          <a:stretch/>
        </p:blipFill>
        <p:spPr>
          <a:xfrm>
            <a:off x="0" y="0"/>
            <a:ext cx="9144000" cy="414324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360360" y="3773520"/>
            <a:ext cx="8512200" cy="2849400"/>
            <a:chOff x="360360" y="3773520"/>
            <a:chExt cx="8512200" cy="2849400"/>
          </a:xfrm>
        </p:grpSpPr>
        <p:sp>
          <p:nvSpPr>
            <p:cNvPr id="45" name="AutoShape 15"/>
            <p:cNvSpPr/>
            <p:nvPr/>
          </p:nvSpPr>
          <p:spPr>
            <a:xfrm>
              <a:off x="560520" y="3773520"/>
              <a:ext cx="8022960" cy="2389320"/>
            </a:xfrm>
            <a:prstGeom prst="roundRect">
              <a:avLst>
                <a:gd name="adj" fmla="val 18606"/>
              </a:avLst>
            </a:prstGeom>
            <a:solidFill>
              <a:srgbClr val="c5d8e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16"/>
            <p:cNvSpPr/>
            <p:nvPr/>
          </p:nvSpPr>
          <p:spPr>
            <a:xfrm>
              <a:off x="360360" y="4143240"/>
              <a:ext cx="8423280" cy="0"/>
            </a:xfrm>
            <a:prstGeom prst="line">
              <a:avLst/>
            </a:prstGeom>
            <a:ln w="19080">
              <a:solidFill>
                <a:srgbClr val="27aae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18" descr="KvK-logo_RGB"/>
            <p:cNvPicPr/>
            <p:nvPr/>
          </p:nvPicPr>
          <p:blipFill>
            <a:blip r:embed="rId3"/>
            <a:stretch/>
          </p:blipFill>
          <p:spPr>
            <a:xfrm>
              <a:off x="7372440" y="5349960"/>
              <a:ext cx="1500120" cy="12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5880" y="4115880"/>
            <a:ext cx="634068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44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76"/>
              </a:spcBef>
              <a:buClr>
                <a:srgbClr val="27aae1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76"/>
              </a:spcBef>
              <a:buClr>
                <a:srgbClr val="27aae1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41440" algn="ctr">
              <a:spcBef>
                <a:spcPts val="176"/>
              </a:spcBef>
              <a:buClr>
                <a:srgbClr val="27aae1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541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541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nl/imgres?imgurl=http://www.bewegende-plaatjes.net/galerij/plaatjes/techniek/computers/images/computer121.gif&amp;imgrefurl=http://www.bewegende-plaatjes.net/galerij/plaatjes/techniek/computers/computer121.gif.html&amp;h=240&amp;w=320&amp;sz=21&amp;tbnid=W0F8BNa1xq42XM:&amp;tbnh=87&amp;tbnw=116&amp;prev=/search%3Fq%3DComputer%2Btekening%26tbm%3Disch%26tbo%3Du&amp;zoom=1&amp;q=Computer+tekening&amp;usg=__nkkQMb1X2K-vTGH2cFZl8Kcy6GQ=&amp;hl=en&amp;sa=X&amp;ei=L2yjULWwFILMhAfEjIDoAg&amp;ved=0CBwQ9QEwAA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google.nl/imgres?imgurl=http://www.bewegende-plaatjes.net/galerij/plaatjes/techniek/computers/images/computer121.gif&amp;imgrefurl=http://www.bewegende-plaatjes.net/galerij/plaatjes/techniek/computers/computer121.gif.html&amp;h=240&amp;w=320&amp;sz=21&amp;tbnid=W0F8BNa1xq42XM:&amp;tbnh=87&amp;tbnw=116&amp;prev=/search%3Fq%3DComputer%2Btekening%26tbm%3Disch%26tbo%3Du&amp;zoom=1&amp;q=Computer+tekening&amp;usg=__nkkQMb1X2K-vTGH2cFZl8Kcy6GQ=&amp;hl=en&amp;sa=X&amp;ei=L2yjULWwFILMhAfEjIDoAg&amp;ved=0CBwQ9QEwAA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google.nl/imgres?imgurl=http://www.bewegende-plaatjes.net/galerij/plaatjes/techniek/computers/images/computer121.gif&amp;imgrefurl=http://www.bewegende-plaatjes.net/galerij/plaatjes/techniek/computers/computer121.gif.html&amp;h=240&amp;w=320&amp;sz=21&amp;tbnid=W0F8BNa1xq42XM:&amp;tbnh=87&amp;tbnw=116&amp;prev=/search%3Fq%3DComputer%2Btekening%26tbm%3Disch%26tbo%3Du&amp;zoom=1&amp;q=Computer+tekening&amp;usg=__nkkQMb1X2K-vTGH2cFZl8Kcy6GQ=&amp;hl=en&amp;sa=X&amp;ei=L2yjULWwFILMhAfEjIDoAg&amp;ved=0CBwQ9QEwAA" TargetMode="External"/><Relationship Id="rId6" Type="http://schemas.openxmlformats.org/officeDocument/2006/relationships/image" Target="../media/image13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nl/imgres?imgurl=http://www.bewegende-plaatjes.net/galerij/plaatjes/techniek/computers/images/computer121.gif&amp;imgrefurl=http://www.bewegende-plaatjes.net/galerij/plaatjes/techniek/computers/computer121.gif.html&amp;h=240&amp;w=320&amp;sz=21&amp;tbnid=W0F8BNa1xq42XM:&amp;tbnh=87&amp;tbnw=116&amp;prev=/search%3Fq%3DComputer%2Btekening%26tbm%3Disch%26tbo%3Du&amp;zoom=1&amp;q=Computer+tekening&amp;usg=__nkkQMb1X2K-vTGH2cFZl8Kcy6GQ=&amp;hl=en&amp;sa=X&amp;ei=L2yjULWwFILMhAfEjIDoAg&amp;ved=0CBwQ9QEwAA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google.nl/imgres?imgurl=http://www.bewegende-plaatjes.net/galerij/plaatjes/techniek/computers/images/computer121.gif&amp;imgrefurl=http://www.bewegende-plaatjes.net/galerij/plaatjes/techniek/computers/computer121.gif.html&amp;h=240&amp;w=320&amp;sz=21&amp;tbnid=W0F8BNa1xq42XM:&amp;tbnh=87&amp;tbnw=116&amp;prev=/search%3Fq%3DComputer%2Btekening%26tbm%3Disch%26tbo%3Du&amp;zoom=1&amp;q=Computer+tekening&amp;usg=__nkkQMb1X2K-vTGH2cFZl8Kcy6GQ=&amp;hl=en&amp;sa=X&amp;ei=L2yjULWwFILMhAfEjIDoAg&amp;ved=0CBwQ9QEwAA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google.nl/imgres?imgurl=http://www.bewegende-plaatjes.net/galerij/plaatjes/techniek/computers/images/computer121.gif&amp;imgrefurl=http://www.bewegende-plaatjes.net/galerij/plaatjes/techniek/computers/computer121.gif.html&amp;h=240&amp;w=320&amp;sz=21&amp;tbnid=W0F8BNa1xq42XM:&amp;tbnh=87&amp;tbnw=116&amp;prev=/search%3Fq%3DComputer%2Btekening%26tbm%3Disch%26tbo%3Du&amp;zoom=1&amp;q=Computer+tekening&amp;usg=__nkkQMb1X2K-vTGH2cFZl8Kcy6GQ=&amp;hl=en&amp;sa=X&amp;ei=L2yjULWwFILMhAfEjIDoAg&amp;ved=0CBwQ9QEwAA" TargetMode="External"/><Relationship Id="rId6" Type="http://schemas.openxmlformats.org/officeDocument/2006/relationships/image" Target="../media/image13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nl/imgres?imgurl=http://www.bewegende-plaatjes.net/galerij/plaatjes/techniek/computers/images/computer121.gif&amp;imgrefurl=http://www.bewegende-plaatjes.net/galerij/plaatjes/techniek/computers/computer121.gif.html&amp;h=240&amp;w=320&amp;sz=21&amp;tbnid=W0F8BNa1xq42XM:&amp;tbnh=87&amp;tbnw=116&amp;prev=/search%3Fq%3DComputer%2Btekening%26tbm%3Disch%26tbo%3Du&amp;zoom=1&amp;q=Computer+tekening&amp;usg=__nkkQMb1X2K-vTGH2cFZl8Kcy6GQ=&amp;hl=en&amp;sa=X&amp;ei=L2yjULWwFILMhAfEjIDoAg&amp;ved=0CBwQ9QEwAA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nl/imgres?imgurl=http://free.clipartof.com/7-Free-Teamwork-Clip-Art-Of-A-Circle-Of-Diverse-People-Holding-Hands.png&amp;imgrefurl=http://free.clipartof.com/details/7-Free-Teamwork-Clip-Art-Of-A-Circle-Of-Diverse-People-Holding-Hands&amp;usg=__g_LztDSYYNv1sGmvRpqEiwigV1A=&amp;h=1191&amp;w=1200&amp;sz=69&amp;hl=en&amp;start=6&amp;zoom=1&amp;tbnid=kTaTlBgNOsUhaM:&amp;tbnh=149&amp;tbnw=150&amp;ei=1Nq1UPOmLIeC4gSTlIGQDQ&amp;prev=/search%3Fq%3Dmeeting%2Bicon%26hl%3Den%26sa%3DN%26tbs%3Disz:l,itp:clipart%26tbm%3Disch&amp;itbs=1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75880" y="4292640"/>
            <a:ext cx="634068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66"/>
                </a:solidFill>
                <a:latin typeface="Arial"/>
              </a:rPr>
              <a:t>KvK Verticaal Sectormodel</a:t>
            </a:r>
            <a:br>
              <a:rPr sz="3600"/>
            </a:b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StUF-Regiegroep 05 dec. 201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02480" y="5329080"/>
            <a:ext cx="1414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26920" y="541440"/>
            <a:ext cx="684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Beheersmatige criteria 07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: Beschreven beheer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75880" y="1267920"/>
            <a:ext cx="744084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06360" indent="-30492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schreven beheer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 basis van beheer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 basis van samenwe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 basis van wijzigingsvoor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 van StUF-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vK faciliteert bijeenkom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vK behandelt en vormt eindoorde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26920" y="3573360"/>
            <a:ext cx="7705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306360" indent="-3049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41440"/>
            <a:ext cx="684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Beheersmatige criteria 08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: Inzicht in implement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76240" y="1483920"/>
            <a:ext cx="765648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06360" indent="-30492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zicht in toekomstige implementa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90000"/>
              </a:lnSpc>
              <a:spcBef>
                <a:spcPts val="201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Naast het gebruikelijk onderhoud (adaptief en correctie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lnSpc>
                <a:spcPct val="90000"/>
              </a:lnSpc>
              <a:spcBef>
                <a:spcPts val="201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R DataServi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90000"/>
              </a:lnSpc>
              <a:spcBef>
                <a:spcPts val="201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Nu vier producten, later mogelijk me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90000"/>
              </a:lnSpc>
              <a:spcBef>
                <a:spcPts val="201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Onderzoek extra zoekinga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90000"/>
              </a:lnSpc>
              <a:spcBef>
                <a:spcPts val="201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ogelijk aansluiten op StUF-BG (eerst impactanaly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lnSpc>
                <a:spcPct val="90000"/>
              </a:lnSpc>
              <a:spcBef>
                <a:spcPts val="201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R Berichten (gebeurtenisse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90000"/>
              </a:lnSpc>
              <a:spcBef>
                <a:spcPts val="201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stuffen van HR Berichten (gebeurtenis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lnSpc>
                <a:spcPct val="90000"/>
              </a:lnSpc>
              <a:spcBef>
                <a:spcPts val="201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Zo mogelijk aansluiten op Stelsel initiatiev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90000"/>
              </a:lnSpc>
              <a:spcBef>
                <a:spcPts val="176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Ronde Tafel Conferentie (Bureau Forum Standaadisat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90000"/>
              </a:lnSpc>
              <a:spcBef>
                <a:spcPts val="176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Op verbetervoorstellen overige basisregistraties (mGBA,…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552240"/>
            <a:ext cx="7440840" cy="3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Senario 1: Aansluiten op bestaande gemeenten data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3860640"/>
            <a:ext cx="1872000" cy="989280"/>
          </a:xfrm>
          <a:prstGeom prst="rect">
            <a:avLst/>
          </a:prstGeom>
          <a:solidFill>
            <a:srgbClr val="27aae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andels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3914640"/>
            <a:ext cx="1873080" cy="935280"/>
          </a:xfrm>
          <a:prstGeom prst="rect">
            <a:avLst/>
          </a:prstGeom>
          <a:solidFill>
            <a:srgbClr val="ffcc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ME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NFORMATIE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tUF-BG 0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tUF-BG 03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2016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4000" y="12016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Kv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84920" y="12016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mee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4075200"/>
            <a:ext cx="7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Arial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8120" y="4365720"/>
            <a:ext cx="1103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35440" y="4365720"/>
            <a:ext cx="750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91160" y="3716280"/>
            <a:ext cx="120600" cy="144360"/>
          </a:xfrm>
          <a:prstGeom prst="ellipse">
            <a:avLst/>
          </a:prstGeom>
          <a:solidFill>
            <a:srgbClr val="005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0120" y="3716280"/>
            <a:ext cx="120960" cy="144360"/>
          </a:xfrm>
          <a:prstGeom prst="ellipse">
            <a:avLst/>
          </a:prstGeom>
          <a:solidFill>
            <a:srgbClr val="005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77080" y="2708280"/>
            <a:ext cx="514080" cy="9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134120" y="2708280"/>
            <a:ext cx="0" cy="9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96720" y="1339920"/>
            <a:ext cx="3645720" cy="1512720"/>
            <a:chOff x="3996720" y="1339920"/>
            <a:chExt cx="3645720" cy="1512720"/>
          </a:xfrm>
        </p:grpSpPr>
        <p:pic>
          <p:nvPicPr>
            <p:cNvPr id="164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019400" y="1627200"/>
              <a:ext cx="91296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364000" y="1627200"/>
              <a:ext cx="91296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611760" y="1628640"/>
              <a:ext cx="91296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856120" y="2384280"/>
              <a:ext cx="120960" cy="144720"/>
            </a:xfrm>
            <a:prstGeom prst="ellipse">
              <a:avLst/>
            </a:prstGeom>
            <a:solidFill>
              <a:srgbClr val="005b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80120" y="2384280"/>
              <a:ext cx="120960" cy="144720"/>
            </a:xfrm>
            <a:prstGeom prst="ellipse">
              <a:avLst/>
            </a:prstGeom>
            <a:solidFill>
              <a:srgbClr val="005b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96720" y="1339920"/>
              <a:ext cx="99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Toepassing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60400" y="1339920"/>
              <a:ext cx="99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Toepassing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44880" y="1339920"/>
              <a:ext cx="99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Toepassing 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2" name=""/>
            <p:cNvGraphicFramePr/>
            <p:nvPr/>
          </p:nvGraphicFramePr>
          <p:xfrm>
            <a:off x="4268880" y="2384280"/>
            <a:ext cx="466560" cy="468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268880" y="2384280"/>
                      <a:ext cx="46656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4" name=""/>
          <p:cNvSpPr/>
          <p:nvPr/>
        </p:nvSpPr>
        <p:spPr>
          <a:xfrm flipH="1" flipV="1">
            <a:off x="4932360" y="2997000"/>
            <a:ext cx="719280" cy="61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6000" y="3716280"/>
            <a:ext cx="120600" cy="144360"/>
          </a:xfrm>
          <a:prstGeom prst="ellipse">
            <a:avLst/>
          </a:prstGeom>
          <a:solidFill>
            <a:srgbClr val="005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6360" y="285912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200" y="293688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95680" y="3716280"/>
            <a:ext cx="15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XML-Inschrijv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XML Vest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17920" y="465444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74520" y="501336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staande situ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920" y="552600"/>
            <a:ext cx="787104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Senario 2: Aansluiten op nieuwe gemeenten database (StuF-B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3914640"/>
            <a:ext cx="1873080" cy="935280"/>
          </a:xfrm>
          <a:prstGeom prst="rect">
            <a:avLst/>
          </a:prstGeom>
          <a:solidFill>
            <a:srgbClr val="ffcc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ME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NFORMATIE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tUF-BG 04xx + N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2360" y="134136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44000" y="12016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Kv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84920" y="12016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mee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75040" y="4359240"/>
            <a:ext cx="258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91160" y="3716280"/>
            <a:ext cx="120600" cy="144360"/>
          </a:xfrm>
          <a:prstGeom prst="ellipse">
            <a:avLst/>
          </a:prstGeom>
          <a:solidFill>
            <a:srgbClr val="005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80120" y="3716280"/>
            <a:ext cx="120960" cy="144360"/>
          </a:xfrm>
          <a:prstGeom prst="ellipse">
            <a:avLst/>
          </a:prstGeom>
          <a:solidFill>
            <a:srgbClr val="005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977080" y="2708280"/>
            <a:ext cx="514080" cy="9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134120" y="2708280"/>
            <a:ext cx="0" cy="9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996720" y="1339920"/>
            <a:ext cx="3645720" cy="1512720"/>
            <a:chOff x="3996720" y="1339920"/>
            <a:chExt cx="3645720" cy="1512720"/>
          </a:xfrm>
        </p:grpSpPr>
        <p:pic>
          <p:nvPicPr>
            <p:cNvPr id="192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019400" y="1627200"/>
              <a:ext cx="91296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364000" y="1627200"/>
              <a:ext cx="91296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611760" y="1628640"/>
              <a:ext cx="91296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856120" y="2384280"/>
              <a:ext cx="120960" cy="144720"/>
            </a:xfrm>
            <a:prstGeom prst="ellipse">
              <a:avLst/>
            </a:prstGeom>
            <a:solidFill>
              <a:srgbClr val="005b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80120" y="2384280"/>
              <a:ext cx="120960" cy="144720"/>
            </a:xfrm>
            <a:prstGeom prst="ellipse">
              <a:avLst/>
            </a:prstGeom>
            <a:solidFill>
              <a:srgbClr val="005b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96720" y="1339920"/>
              <a:ext cx="99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Toepassing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60400" y="1339920"/>
              <a:ext cx="99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Toepassing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44880" y="1339920"/>
              <a:ext cx="99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Toepassing 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0" name=""/>
            <p:cNvGraphicFramePr/>
            <p:nvPr/>
          </p:nvGraphicFramePr>
          <p:xfrm>
            <a:off x="4268880" y="2384280"/>
            <a:ext cx="466560" cy="468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268880" y="2384280"/>
                      <a:ext cx="46656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2" name=""/>
          <p:cNvSpPr/>
          <p:nvPr/>
        </p:nvSpPr>
        <p:spPr>
          <a:xfrm flipH="1" flipV="1">
            <a:off x="4932360" y="2997000"/>
            <a:ext cx="719280" cy="61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6000" y="3716280"/>
            <a:ext cx="120600" cy="144360"/>
          </a:xfrm>
          <a:prstGeom prst="ellipse">
            <a:avLst/>
          </a:prstGeom>
          <a:solidFill>
            <a:srgbClr val="005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46360" y="285912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4200" y="293688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3914640"/>
            <a:ext cx="1871640" cy="989280"/>
          </a:xfrm>
          <a:prstGeom prst="rect">
            <a:avLst/>
          </a:prstGeom>
          <a:gradFill rotWithShape="0">
            <a:gsLst>
              <a:gs pos="0">
                <a:srgbClr val="27aae1"/>
              </a:gs>
              <a:gs pos="100000">
                <a:srgbClr val="ffcc33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andels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(in lijn met StUF-B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4386240"/>
            <a:ext cx="15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XML-Inschrijv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XML Vest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76520" y="490392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7040" y="501336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ieuwe situ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35344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Senario 3: Gemeenten toepassingen direct op HR-Dataservices/ </a:t>
            </a:r>
            <a:br>
              <a:rPr sz="2000"/>
            </a:b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HR-Bericht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68800" y="4498920"/>
            <a:ext cx="1871640" cy="988920"/>
          </a:xfrm>
          <a:prstGeom prst="rect">
            <a:avLst/>
          </a:prstGeom>
          <a:gradFill rotWithShape="0">
            <a:gsLst>
              <a:gs pos="0">
                <a:srgbClr val="27aae1"/>
              </a:gs>
              <a:gs pos="100000">
                <a:srgbClr val="ffcc33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andels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(in lijn met StUF-B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85640" y="38624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Kv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59680" y="13082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mee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95880" y="4281480"/>
            <a:ext cx="120600" cy="144360"/>
          </a:xfrm>
          <a:prstGeom prst="ellipse">
            <a:avLst/>
          </a:prstGeom>
          <a:solidFill>
            <a:srgbClr val="005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97360" y="4281480"/>
            <a:ext cx="120600" cy="144360"/>
          </a:xfrm>
          <a:prstGeom prst="ellipse">
            <a:avLst/>
          </a:prstGeom>
          <a:solidFill>
            <a:srgbClr val="005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295880" y="2528640"/>
            <a:ext cx="0" cy="160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911840" y="2528640"/>
            <a:ext cx="556920" cy="160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385360" y="1201680"/>
            <a:ext cx="3645720" cy="1512720"/>
            <a:chOff x="2385360" y="1201680"/>
            <a:chExt cx="3645720" cy="1512720"/>
          </a:xfrm>
        </p:grpSpPr>
        <p:pic>
          <p:nvPicPr>
            <p:cNvPr id="219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408040" y="1488960"/>
              <a:ext cx="91296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3"/>
            <a:stretch/>
          </p:blipFill>
          <p:spPr>
            <a:xfrm>
              <a:off x="3752640" y="1488960"/>
              <a:ext cx="91296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4"/>
            <a:stretch/>
          </p:blipFill>
          <p:spPr>
            <a:xfrm>
              <a:off x="5000400" y="1490400"/>
              <a:ext cx="91296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244760" y="2246040"/>
              <a:ext cx="120960" cy="144720"/>
            </a:xfrm>
            <a:prstGeom prst="ellipse">
              <a:avLst/>
            </a:prstGeom>
            <a:solidFill>
              <a:srgbClr val="005b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68760" y="2246040"/>
              <a:ext cx="120960" cy="144720"/>
            </a:xfrm>
            <a:prstGeom prst="ellipse">
              <a:avLst/>
            </a:prstGeom>
            <a:solidFill>
              <a:srgbClr val="005b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85360" y="1201680"/>
              <a:ext cx="99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Toepassing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49040" y="1201680"/>
              <a:ext cx="99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Toepassing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33520" y="1201680"/>
              <a:ext cx="99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Toepassing 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7" name=""/>
            <p:cNvGraphicFramePr/>
            <p:nvPr/>
          </p:nvGraphicFramePr>
          <p:xfrm>
            <a:off x="2657520" y="2246040"/>
            <a:ext cx="466560" cy="468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57520" y="2246040"/>
                      <a:ext cx="46656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9" name=""/>
          <p:cNvSpPr/>
          <p:nvPr/>
        </p:nvSpPr>
        <p:spPr>
          <a:xfrm flipH="1" flipV="1">
            <a:off x="3131640" y="2774880"/>
            <a:ext cx="520920" cy="136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52920" y="4281480"/>
            <a:ext cx="120600" cy="144360"/>
          </a:xfrm>
          <a:prstGeom prst="ellipse">
            <a:avLst/>
          </a:prstGeom>
          <a:solidFill>
            <a:srgbClr val="005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14320" y="305748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76160" y="305928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371628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446800" y="2700360"/>
            <a:ext cx="1485720" cy="1015560"/>
            <a:chOff x="5446800" y="2700360"/>
            <a:chExt cx="1485720" cy="1015560"/>
          </a:xfrm>
        </p:grpSpPr>
        <p:sp>
          <p:nvSpPr>
            <p:cNvPr id="235" name="AutoShape 16"/>
            <p:cNvSpPr/>
            <p:nvPr/>
          </p:nvSpPr>
          <p:spPr>
            <a:xfrm>
              <a:off x="5446800" y="2700360"/>
              <a:ext cx="1485720" cy="1015560"/>
            </a:xfrm>
            <a:prstGeom prst="cloudCallout">
              <a:avLst>
                <a:gd name="adj1" fmla="val -26768"/>
                <a:gd name="adj2" fmla="val 77898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97640" y="2963880"/>
              <a:ext cx="133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TOEKOMST MUZIEK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614520"/>
            <a:ext cx="744084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Eind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3573360"/>
            <a:ext cx="7705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306360" indent="-3049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5084640" y="4435560"/>
            <a:ext cx="1476360" cy="165240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11"/>
          <p:cNvGrpSpPr/>
          <p:nvPr/>
        </p:nvGrpSpPr>
        <p:grpSpPr>
          <a:xfrm>
            <a:off x="6016680" y="4089240"/>
            <a:ext cx="1076400" cy="809640"/>
            <a:chOff x="6016680" y="4089240"/>
            <a:chExt cx="1076400" cy="809640"/>
          </a:xfrm>
        </p:grpSpPr>
        <p:pic>
          <p:nvPicPr>
            <p:cNvPr id="241" name="Picture 7" descr="MC900441367[1]"/>
            <p:cNvPicPr/>
            <p:nvPr/>
          </p:nvPicPr>
          <p:blipFill>
            <a:blip r:embed="rId2"/>
            <a:stretch/>
          </p:blipFill>
          <p:spPr>
            <a:xfrm>
              <a:off x="6016680" y="4089240"/>
              <a:ext cx="10764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9"/>
            <p:cNvSpPr/>
            <p:nvPr/>
          </p:nvSpPr>
          <p:spPr>
            <a:xfrm>
              <a:off x="6064200" y="4267080"/>
              <a:ext cx="78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Bedankt!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75880" y="1268280"/>
            <a:ext cx="74408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06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5baa"/>
                </a:solidFill>
                <a:latin typeface="Arial"/>
              </a:rPr>
              <a:t>Inhou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-30492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ndels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-30492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ducten &amp; Dien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-30492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heersmatige criteria 01 t/m 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-30492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kele Senario’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-30492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75880" y="991800"/>
            <a:ext cx="744084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andelsregi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5880" y="1557360"/>
            <a:ext cx="74408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andelsregis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Handelsregister is de basisregistratie waarin alle bedrijven en rechtspersonen ingeschreven staa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andelsregister bestaat u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rondocumenten + aanvullende bewijsstukken (brondocumentenregistrat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beurtenissen (gebeurtenissenregistrat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uthentieke gegevens conform Hrw  (basisregistrat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anvullende gegevens conform Hrb (basisregistratie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poneringen (Dep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invoer vindt plaats aan de hand van gebeurteni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516720" y="4413240"/>
            <a:ext cx="1214280" cy="1773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372360" y="4138560"/>
            <a:ext cx="18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6600"/>
                </a:solidFill>
                <a:latin typeface="Arial"/>
              </a:rPr>
              <a:t>Beschreven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75880" y="1433160"/>
            <a:ext cx="7440840" cy="28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R Berichten (gebeurteniss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spcBef>
                <a:spcPts val="176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bonnement op trigger/gebeurte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R Dataservices (Systeem – Systeem koppel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spcBef>
                <a:spcPts val="176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nschrijving,  Inschrijving in ‘t k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spcBef>
                <a:spcPts val="176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estiging, Vestiging in ‘t k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R Inz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spcBef>
                <a:spcPts val="176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lle KvK online produc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Terugmeldfacilit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spcBef>
                <a:spcPts val="176"/>
              </a:spcBef>
              <a:buClr>
                <a:srgbClr val="27aa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erugme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857760" y="2763720"/>
            <a:ext cx="4531680" cy="2775240"/>
            <a:chOff x="3857760" y="2763720"/>
            <a:chExt cx="4531680" cy="2775240"/>
          </a:xfrm>
        </p:grpSpPr>
        <p:sp>
          <p:nvSpPr>
            <p:cNvPr id="102" name=""/>
            <p:cNvSpPr/>
            <p:nvPr/>
          </p:nvSpPr>
          <p:spPr>
            <a:xfrm>
              <a:off x="3857760" y="4489560"/>
              <a:ext cx="701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3366"/>
                  </a:solidFill>
                  <a:latin typeface="Arial"/>
                </a:rPr>
                <a:t>Pro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7518240" y="2763720"/>
              <a:ext cx="734760" cy="6098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6102360" y="3129120"/>
              <a:ext cx="431280" cy="5698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cxnSp>
          <p:nvCxnSpPr>
            <p:cNvPr id="105" name=""/>
            <p:cNvCxnSpPr>
              <a:stCxn id="104" idx="3"/>
              <a:endCxn id="103" idx="1"/>
            </p:cNvCxnSpPr>
            <p:nvPr/>
          </p:nvCxnSpPr>
          <p:spPr>
            <a:xfrm flipV="1">
              <a:off x="6533640" y="3067920"/>
              <a:ext cx="984240" cy="346680"/>
            </a:xfrm>
            <a:prstGeom prst="curvedConnector5">
              <a:avLst>
                <a:gd name="adj1" fmla="val 49981"/>
                <a:gd name="adj2" fmla="val 50000"/>
                <a:gd name="adj3" fmla="val 49981"/>
              </a:avLst>
            </a:prstGeom>
            <a:ln w="648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06" name=""/>
            <p:cNvSpPr/>
            <p:nvPr/>
          </p:nvSpPr>
          <p:spPr>
            <a:xfrm>
              <a:off x="6021360" y="3740040"/>
              <a:ext cx="69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3366"/>
                  </a:solidFill>
                  <a:latin typeface="Arial"/>
                </a:rPr>
                <a:t>Afne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61000" y="5140440"/>
              <a:ext cx="1744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3366"/>
                  </a:solidFill>
                  <a:latin typeface="Arial"/>
                </a:rPr>
                <a:t>Bevragen Applicatie - Applicat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"/>
            <p:cNvCxnSpPr>
              <a:stCxn id="109" idx="3"/>
              <a:endCxn id="104" idx="1"/>
            </p:cNvCxnSpPr>
            <p:nvPr/>
          </p:nvCxnSpPr>
          <p:spPr>
            <a:xfrm flipV="1">
              <a:off x="4773600" y="3413880"/>
              <a:ext cx="1329120" cy="834120"/>
            </a:xfrm>
            <a:prstGeom prst="curvedConnector5">
              <a:avLst>
                <a:gd name="adj1" fmla="val 49932"/>
                <a:gd name="adj2" fmla="val 50000"/>
                <a:gd name="adj3" fmla="val 49932"/>
              </a:avLst>
            </a:prstGeom>
            <a:ln w="6480">
              <a:solidFill>
                <a:srgbClr val="000000"/>
              </a:solidFill>
              <a:miter/>
              <a:headEnd len="med" type="triangle" w="med"/>
            </a:ln>
          </p:spPr>
        </p:cxnSp>
        <p:pic>
          <p:nvPicPr>
            <p:cNvPr id="110" name="" descr=""/>
            <p:cNvPicPr/>
            <p:nvPr/>
          </p:nvPicPr>
          <p:blipFill>
            <a:blip r:embed="rId3"/>
            <a:stretch/>
          </p:blipFill>
          <p:spPr>
            <a:xfrm>
              <a:off x="4289400" y="3984480"/>
              <a:ext cx="483840" cy="5270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cxnSp>
          <p:nvCxnSpPr>
            <p:cNvPr id="111" name=""/>
            <p:cNvCxnSpPr>
              <a:stCxn id="110" idx="2"/>
              <a:endCxn id="112" idx="1"/>
            </p:cNvCxnSpPr>
            <p:nvPr/>
          </p:nvCxnSpPr>
          <p:spPr>
            <a:xfrm flipH="1" flipV="1" rot="5400000">
              <a:off x="5808240" y="2801520"/>
              <a:ext cx="433800" cy="2986560"/>
            </a:xfrm>
            <a:prstGeom prst="curvedConnector5">
              <a:avLst>
                <a:gd name="adj1" fmla="val -52740"/>
                <a:gd name="adj2" fmla="val 27004"/>
                <a:gd name="adj3" fmla="val -52740"/>
              </a:avLst>
            </a:prstGeom>
            <a:ln w="64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>
              <a:off x="7518240" y="4761000"/>
              <a:ext cx="740880" cy="662040"/>
            </a:xfrm>
            <a:prstGeom prst="rect">
              <a:avLst/>
            </a:prstGeom>
            <a:ln w="12600">
              <a:solidFill>
                <a:srgbClr val="003366"/>
              </a:solidFill>
              <a:miter/>
            </a:ln>
          </p:spPr>
        </p:pic>
        <p:cxnSp>
          <p:nvCxnSpPr>
            <p:cNvPr id="114" name=""/>
            <p:cNvCxnSpPr>
              <a:stCxn id="110" idx="2"/>
              <a:endCxn id="113" idx="1"/>
            </p:cNvCxnSpPr>
            <p:nvPr/>
          </p:nvCxnSpPr>
          <p:spPr>
            <a:xfrm flipH="1" rot="16200000">
              <a:off x="5734440" y="3308760"/>
              <a:ext cx="581400" cy="2986560"/>
            </a:xfrm>
            <a:prstGeom prst="curvedConnector2">
              <a:avLst/>
            </a:prstGeom>
            <a:ln w="64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6368760" y="4267080"/>
              <a:ext cx="113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3366"/>
                  </a:solidFill>
                  <a:latin typeface="Arial"/>
                </a:rPr>
                <a:t>Inzien Onl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7518240" y="3600360"/>
              <a:ext cx="726840" cy="954360"/>
            </a:xfrm>
            <a:prstGeom prst="rect">
              <a:avLst/>
            </a:prstGeom>
            <a:ln w="12600">
              <a:solidFill>
                <a:srgbClr val="003366"/>
              </a:solidFill>
              <a:miter/>
            </a:ln>
          </p:spPr>
        </p:pic>
        <p:sp>
          <p:nvSpPr>
            <p:cNvPr id="117" name=""/>
            <p:cNvSpPr/>
            <p:nvPr/>
          </p:nvSpPr>
          <p:spPr>
            <a:xfrm>
              <a:off x="6603480" y="2824200"/>
              <a:ext cx="91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3366"/>
                  </a:solidFill>
                  <a:latin typeface="Arial"/>
                </a:rPr>
                <a:t>Gebeurten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05560" y="4665600"/>
              <a:ext cx="983880" cy="85428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 flipH="1">
            <a:off x="5504040" y="2205000"/>
            <a:ext cx="59832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811680" y="1557360"/>
            <a:ext cx="7063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6120" y="561960"/>
            <a:ext cx="7440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oducten &amp; Dienst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43560" y="13730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6600"/>
                </a:solidFill>
                <a:latin typeface="Arial"/>
              </a:rPr>
              <a:t>Vervol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02360" y="202104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6600"/>
                </a:solidFill>
                <a:latin typeface="Arial"/>
              </a:rPr>
              <a:t>Huidige VerStuf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26920" y="3573360"/>
            <a:ext cx="7705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306360" indent="-3049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541440"/>
            <a:ext cx="684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Beheersmatige criteria 01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: Beheercontinu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75880" y="1267920"/>
            <a:ext cx="74408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06360" indent="-30492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heercontinuiteit &gt;= 3 j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nwerking met betrokken partij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ploper gemeenten (start ~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ftwareleveranc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-30492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amer van Koophandel facilit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lnSpc>
                <a:spcPct val="8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heer en bijeenkomsten (max 2 pj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541080"/>
            <a:ext cx="59752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Beheersmatige criteria 02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: Configuratieplaat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40000" y="901800"/>
            <a:ext cx="5688000" cy="5527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4360" y="112536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6600"/>
                </a:solidFill>
                <a:latin typeface="Arial"/>
              </a:rPr>
              <a:t>STUF 0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702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6600"/>
                </a:solidFill>
                <a:latin typeface="Arial"/>
              </a:rPr>
              <a:t>ENTIT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4005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6600"/>
                </a:solidFill>
                <a:latin typeface="Arial"/>
              </a:rPr>
              <a:t>BERI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544500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66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3573360"/>
            <a:ext cx="7705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306360" indent="-3049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541440"/>
            <a:ext cx="684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Beheersmatige criteria 03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: Releasebel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76240" y="1267920"/>
            <a:ext cx="7656480" cy="37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303120" indent="-30168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leasebe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3160" indent="-26388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gangspunten StUF overgen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0640" indent="-263880"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dien relevant voor dit eigen sector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06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3160" indent="-26388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ximaal 2 releases per j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0640" indent="-263880"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gulier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april / 1 okto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0640" indent="-263880"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atch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x per j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06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3160" indent="-26388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koppeld aan releases catalo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0640" indent="-263880"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gevenscatalogus n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0640" indent="-263880"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eurtenissencatalogus nHR (volg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31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26920" y="3573360"/>
            <a:ext cx="7705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306360" indent="-3049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541440"/>
            <a:ext cx="684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Beheersmatige criteria 04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: Participatie &amp; Besluitv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76240" y="1267920"/>
            <a:ext cx="78724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06360" indent="-30492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sluitvorm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richt op consensus, ma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vK stelt definitief vas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-30492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articipat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nwerking met betrokken partijen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ploper gemeenten (zeg max.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ftwareleveranc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26676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etreden in overleg met K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x. 2 bijeenkomsten per j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66760">
              <a:lnSpc>
                <a:spcPct val="90000"/>
              </a:lnSpc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 van de StUF-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26920" y="3573360"/>
            <a:ext cx="7705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306360" indent="-3049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541440"/>
            <a:ext cx="7490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Beheersmatige criteria 05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: Vertegenwoordiger in regiegro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6560" y="1484280"/>
            <a:ext cx="74408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lvl="1" marL="299880" indent="-29880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vK vertegenwoordiger aanwez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388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484280"/>
            <a:ext cx="1584360" cy="1575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26920" y="3824280"/>
            <a:ext cx="7490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66"/>
                </a:solidFill>
                <a:latin typeface="Arial"/>
              </a:rPr>
              <a:t>Beheersmatige criteria 06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: Toegankelijkheid specific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4221000"/>
            <a:ext cx="7440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306360" indent="-304920">
              <a:spcBef>
                <a:spcPts val="224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tU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6360" indent="-304920">
              <a:spcBef>
                <a:spcPts val="201"/>
              </a:spcBef>
              <a:buClr>
                <a:srgbClr val="27aa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bsite Kamer van Koophandel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7:07:22Z</dcterms:created>
  <dc:creator>dbxron</dc:creator>
  <dc:description/>
  <dc:language>en-US</dc:language>
  <cp:lastModifiedBy>dbxron</cp:lastModifiedBy>
  <dcterms:modified xsi:type="dcterms:W3CDTF">2012-12-04T08:53:46Z</dcterms:modified>
  <cp:revision>162</cp:revision>
  <dc:subject/>
  <dc:title>Dia 1</dc:title>
</cp:coreProperties>
</file>